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3208-A40B-4EBE-970F-09540F843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F360-1937-4B1F-BC96-B36128EA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E79E-420A-4651-88C6-5C34FCB6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F8D8-960B-4699-83B6-EE2867D2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1716-5251-435C-BA43-C1C48588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59F8-6F6A-41C2-83B2-02C2D4CA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9B19-E440-4EFD-BA07-49681607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14C0-5721-48FD-8301-98FFBB97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95C-0AE7-485C-BB97-9D7AEC0E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7F8D-F6B2-4B15-A871-759B67F3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BBD0-BFB0-4D52-BACD-A29F7C1F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4959-F0CA-46C7-82CA-AC11E463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E64B-0A2C-4C92-85A0-DF59B5874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y Psychiatric complain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ast hx of mental ill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epressive or manic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sychotic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urotic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H of mental illness, epilepsy or suicidal attem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orensic record, suicidal attempt or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E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ries: -could not resume muscle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prolonged hospitalization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missed from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consult Psychiatris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ng Foo Ch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/31y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r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ing in Tseung Kwan O with fam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ical Engin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ef Compla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ioration of Lower Limb weakness 9 days a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Present Ill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tted to PWH medical ward 1 month ago for generalised maculopapular rash for 1 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ticarial like, prur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with low grade fever, diffuse muscle p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ble to walk or move four lim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weeks before admission, travelled to Tung Kw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d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/E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Generalised Rash: 2.5cm blis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Generalised muscle tender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neuro: power UL 4/5  LL 3/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ne and reflex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-going plantar ref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CVS,Chest, Abdomen: unremark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stig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vated ES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T brain, CSF, EEG: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ction screen: 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matologist’s opinion: Acute Urtic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logist: No objective evidence of acute neuropathy, myopathy, spinal cord disease or CNS inf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ess: Rash subsided, power improved, so referred to SH for rehabilitation(supportive treatment and physiotherapy) 2 weeks after ad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 days ago…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mitted to PWH medical ward due to sudden onset of generalised muscle weakness and convul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 consciousness and 3 episodes of L focal twitching and eye rolling at A&amp;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ey catheter was inse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ained consciousness after 2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/E and 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/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uscle was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: UL – 4/5, LL 2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ateral LL brisk reflex esp on L side, down going pla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it: could not 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x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brain, LP, EEG, EMG: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ction screen :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03:58:37Z</dcterms:created>
  <dc:creator>student</dc:creator>
  <dc:description/>
  <dc:language>en-US</dc:language>
  <cp:lastModifiedBy>student</cp:lastModifiedBy>
  <dcterms:modified xsi:type="dcterms:W3CDTF">2001-12-14T05:09:48Z</dcterms:modified>
  <cp:revision>9</cp:revision>
  <dc:subject/>
  <dc:title>Presentation</dc:title>
</cp:coreProperties>
</file>